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3443-30D2-4CE4-8420-1C120779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FED2-42B2-40AD-B9B6-C61C0322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DA0D-144F-4223-B1E4-BAA41CA03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66A4-8260-474F-9B2B-18924E59D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963CD-CF08-491A-A7F2-A1E698E1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D326C-2321-48A8-94DE-1ACFD3BF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144DFE-A152-4E7F-824E-FF78FBDC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C1A04-0C17-41D5-BE2C-FDE77404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F7D59-DA8D-4411-97CD-C73B4840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9F7DB-F49D-4D54-B707-DF6679A5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3E144-9159-447E-ABCE-A8D0573C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5453-E373-48FE-A398-7082F3CD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BC81B-DC03-40B4-92E1-6C4CEF7C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7F549-74E6-487E-B637-C2992BA0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3627E-5989-49FE-980F-E3EF9782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74C68-3401-486A-84B5-042977EEC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C1160-5DBB-48DD-9F01-4F6E8AAF8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9EDF-EC44-4531-8C46-5EAD46CF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8584-3D57-430E-8907-020DC23D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DDFF-204C-4920-8A9B-B19F4E47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C220-C4B3-48F9-9E09-041D8A0D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CDDD-7C64-4F06-970F-814EE55C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4EF7-1C0A-4B2A-A92B-FFF33A3D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C571-2063-43F2-AD5B-06DD7EB0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44813-38B1-432A-8BF1-9C1453B8BAEB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F812-601B-4398-B529-ABE1AB2FA3E2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00000" y="1557360"/>
            <a:ext cx="741708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2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AS 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المخــزون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932360" y="2852640"/>
            <a:ext cx="50472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76720" y="1197000"/>
            <a:ext cx="36100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صافى القيمة البيع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013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عادة ما يتم تخفيض قيمة المخزون إلى صافى قيمته البيعية على أساس كل بند على حد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قد يكون مناسباً تجميع البنود المتجانسة أو المتعلقة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ببعضها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فى مجموعا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عتمد تقدير صافى القيمة البيعية على الدلائل المتاحة التى يمكن أن يعتد بها وقت إعداد هذا التقدير والتى يكون من المتوقع أن تحققها بنود المخزو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03280" y="549360"/>
            <a:ext cx="3683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تحميل على المصرو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6268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حمل القيمة الدفترية للمخزون المباع كمصروف فى الفترة التى تحقق فيها الإيراد الناتج عن البي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268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جب معالجة قيمة أى رد لأى تخفيض فى قيمة المخزون الناشئ عن الزيادة فى صافى قيمته البيعية كتخفيض فى تكلفة المخزون المباع فى الفترة التى تم الرد في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268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قد تستخدم بعض بنود المخزون فى إنشاء أصول ثابتة وعندئذ تحمل تكلفة هذه البنود على حسابات هذه الأصول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03640" y="333000"/>
            <a:ext cx="18939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ff00"/>
                </a:solidFill>
                <a:uFillTx/>
                <a:latin typeface="Arial"/>
              </a:rPr>
              <a:t>الإفصــــاح</a:t>
            </a:r>
            <a:r>
              <a:rPr b="0" lang="ar-EG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991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61160" indent="0" algn="r" rtl="1">
              <a:lnSpc>
                <a:spcPct val="90000"/>
              </a:lnSpc>
              <a:spcBef>
                <a:spcPts val="901"/>
              </a:spcBef>
              <a:spcAft>
                <a:spcPts val="20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</a:rPr>
              <a:t>يجب أن تفصح القوائم المالية عن الآتي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سياسات المحاسبية المتبعة عند قياس قيمة المخزون بما فى ذلك الطريقة المستخدمة لحساب التكلفة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ى تغيير فى السياسات المحاسبية المتعلقة بالمخزون والأسباب الضرورية لهذا التعديل وأثر هذا التعديل فى الفترة الجارية والفترات السابق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إجمالى القيمة الدفترية للمخزون مبوبة تبويباً مناسباً يتفق مع طبيعة نشاط المنشأ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قيمة الدفترية للمخزون بصافى قيمته البيع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قيمة المخزون المرهون كضمان الالتزاما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410920" y="2565360"/>
            <a:ext cx="490716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00"/>
                </a:solidFill>
                <a:latin typeface="Arial"/>
              </a:rPr>
              <a:t>حالات عمليــ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32720" y="475920"/>
            <a:ext cx="19540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مثال (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)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شترت شركة رولا مخزون فى أول يناي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ب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و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كانت صافى القيمة البيعي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، وخلال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باعت الشركة المخزون ب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وفقاً لما سبق، أى من البيانات التالية صحيحاً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  - قيمة المخزون الظاهرة فى الميزانية 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ه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ب- قيمة المخزون الظاهرة فى الميزانية 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ه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جـ- عند بيع المخزون فى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فإن ما يظهر فى قائمة الدخل كمكسب هو 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 - فى السنة المالية المنتهية 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فإن الشركة اعترفت بخسارة قدرها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فى قائمة الدخ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حــــل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just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خيار (د) هو الصحيح،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حيث تتطلب معايير المحاسبة المصرية أن يتم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قييم المخزون آخر المدة بالتكلفة أو صافى القيمة البيعية أيهما أقل، وينبغى على الشركة الاعتراف بخسارة قدرها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(عبارة عن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) فى قائمة الدخل عن سن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عند بيع المخزون فى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ينبغى الاعتراف بربح قدره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) يعترف بها فى قائمة الدخ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خيار ( أ ) غير صحيح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 لانه يجب تخفيض المخزون الى القيمة السوقية فى نهاية السن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خيار (ب) غير صحيح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 لان واقع أن المخزون تم بيعه ب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جنيه مصرى فى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ليس له تأثير على رصيد المخزون فى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خيار (ج) غير صحيح،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حيث أن بيع المخزون ب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يجب مقارنته بقيمة المخزون 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الذى كان القيمة الاقل من التكلفة أو صافى القيمة البيعية أى النتيجة تحقيق مكسب قدره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عبارة عن 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ثـال (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)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9152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فيما يلى بعض المعلومات المتعلقة بشركة الياسمين عن سن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547640" y="2060640"/>
          <a:ext cx="6991560" cy="2070000"/>
        </p:xfrm>
        <a:graphic>
          <a:graphicData uri="http://schemas.openxmlformats.org/drawingml/2006/table">
            <a:tbl>
              <a:tblPr/>
              <a:tblGrid>
                <a:gridCol w="2376720"/>
                <a:gridCol w="4614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جني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شتريات بغرض البي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رتجعات للبائ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وائد على الحسابات الدائن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صروفات شحن البضائ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755640" y="4508640"/>
            <a:ext cx="806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فإن تكلفة المخزون سوف تكون: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( أ )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297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جنيه     (ب)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جنيه      (ج)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304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جنيه     ( د)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316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جن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48000" y="333000"/>
            <a:ext cx="17384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حـــــل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3429000"/>
            <a:ext cx="836280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خيار ( أ ) غير صحيح، لأن مصروفات الشحن يجب أن تدخل كجزء من تكلفة المخزو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just" rtl="1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خيار (ب) غير صحيح، لأنه بالاضافة الى مشتريات البضاعة فإن البضاعة المرتجعة ومصروفات الشحن يجب إدخالهما ضمن الحساب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just" rtl="1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خيار ( د) غير صحيح، لأن تكلفة الفائدة على التمويل لا تدخل ضمن تكلفة المخزون (إلا فى ظل إشتراطات معينة كما جاء فى المعيار المحاسبى المصرى رقم (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) والمتعلق بتكلفة الاقتراض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ffff00"/>
                </a:solidFill>
                <a:uFillTx/>
                <a:latin typeface="Arial"/>
              </a:rPr>
              <a:t>وتتلخص الاشتراطات فى: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أن يتطلب المخزون فترة زمنية طويلة لاعداده وبيعه مثل شركات الاستثمار العقارى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أن تكون تكلفة الاقتراض فعلية وليس افتراض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عدم استكمال الاصل بشكل جوهرى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763640" y="1268280"/>
          <a:ext cx="6918480" cy="1822680"/>
        </p:xfrm>
        <a:graphic>
          <a:graphicData uri="http://schemas.openxmlformats.org/drawingml/2006/table">
            <a:tbl>
              <a:tblPr/>
              <a:tblGrid>
                <a:gridCol w="2448000"/>
                <a:gridCol w="4470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شتريات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مصروفات الشح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-) مرتجعات للبائ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00</a:t>
                      </a:r>
                      <a:r>
                        <a:rPr b="1" lang="ar-EG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04</a:t>
                      </a:r>
                      <a:r>
                        <a:rPr b="1" lang="ar-EG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جني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31640" y="1341360"/>
            <a:ext cx="3024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حتويــــ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339640" y="2421000"/>
            <a:ext cx="4691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هدف المعي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تعريفـــ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المعالجة المحاسب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الافصا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حالات عمل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347640" y="2923920"/>
            <a:ext cx="259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هدف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1599840"/>
            <a:ext cx="793116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هدف هذا المعيار إلى شرح المعالجة المحاسبية للمخزو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وفر هذا المعيار إرشادا عملياً لتحديد التكلفة وما سيتتبع ذلك من الاعتراف بها كمصروفات بما فى ذلك أى تخفيض فى القيمة للوصول إلى صافى القيمة البيع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كما أنه يوفر إرشادات عن طرق حساب التكلفة التى تستخدم لتحميل التكاليف على المخزو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659280" y="691920"/>
            <a:ext cx="202716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هدف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59280" y="260280"/>
            <a:ext cx="2952720" cy="10598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المخزو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معيار المحاسبة المصرى رقم (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59640" y="1484280"/>
            <a:ext cx="2089080" cy="7855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أولا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تعريف المخزو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1484280"/>
            <a:ext cx="2089080" cy="10598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ثانيـا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قياس قيمة المخزو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1413000"/>
            <a:ext cx="2520720" cy="10598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ثالثـا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الافصاح عن المخزون فى القوائم المال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105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835280" y="1197000"/>
            <a:ext cx="590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35280" y="1197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40720" y="1197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2708280"/>
            <a:ext cx="2089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التكلفة أو صافة القيمة البيعية أيهما أق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43640" y="3789360"/>
            <a:ext cx="2089080" cy="3682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أ  - قياس التكلف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48000" y="3860640"/>
            <a:ext cx="2519280" cy="642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ب – قياس صافى القيمة البيع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860640"/>
            <a:ext cx="2773440" cy="11912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جـ- كيفية تطبيق طريقة التكلفة أو صافى القيمة البيعية أيهما أق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56360" y="4869000"/>
            <a:ext cx="2089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- تكلفة إقتناء أو الحصول على المخزو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32000" y="4869000"/>
            <a:ext cx="2521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- تكلفة المخزون والمنصرف خلال الفترة للانتاج أو البي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4869000"/>
            <a:ext cx="2089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- تكلفة المخزون المتبقى آخر الفتر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6197760"/>
            <a:ext cx="2089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1/1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 المنشآت التجارية والمواد الخا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6124680"/>
            <a:ext cx="2089080" cy="642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1/2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 المنشآت الصناع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6124680"/>
            <a:ext cx="2089080" cy="642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1/3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 المنشآت الخدم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618920" y="3645000"/>
            <a:ext cx="597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19280" y="364500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27640" y="364500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96360" y="364500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88000" y="3429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24720" y="429408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763280" y="4581360"/>
            <a:ext cx="576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63640" y="458136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3280" y="4581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276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67640" y="551664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339640" y="5805360"/>
            <a:ext cx="532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0000" y="580536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5805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72000" y="404640"/>
            <a:ext cx="2314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عريفـــــــات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83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المخزون هو أصل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( أ )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محتفظ به بغرض البيع ضمن النشاط العادى للمنشأ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و (ب)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فى مرحلة الانتاج ليصبح قابلاً للبي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44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و (ج)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فى شكل مواد خام أو مهمات تستخدم فى مراحل الانتاج أو فى تقديم الخدمات.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3068640"/>
            <a:ext cx="8280360" cy="39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صافى القيمة البيعية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سعر التقديرى للبيع من خلال  النشاط العادى ناقصاً التكلفة التقديرية للاتمام وكذلك أية تكلفة أخرى تستلزمها إتمام عملية البي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القيمة العادلة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هى القيمة التى يمكن بموجبها تبادل أصل أو تسوية التزام بين أطراف كل منهم لديه الرغبة فى التبادل وعلى بينة من الحقائق ويتعاملان بإرادة حر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340000" y="2707920"/>
            <a:ext cx="48960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00"/>
                </a:solidFill>
                <a:latin typeface="Arial"/>
              </a:rPr>
              <a:t>المعالجة المحاسبي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96000" y="1268280"/>
            <a:ext cx="28908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 u="sng">
                <a:solidFill>
                  <a:srgbClr val="ffff00"/>
                </a:solidFill>
                <a:uFillTx/>
                <a:latin typeface="Arial"/>
              </a:rPr>
              <a:t>حساب التكلفة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43588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71604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تحميل بنود المخزون المحددة بذاتها والمنتجات والخدمات التى يمكن فصلها ويتم ربطها بمشروعات معينة بعناصر التكاليف الخاصة بكل منها على حد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جب استخدام طريقة الوارد أولاً يصرف أولاً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 أو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طريقة المتوسط المرجح للتكلفة عند تحديد تكلفة المخزون فى الحالات الأخرى خلاف تلك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التى يتم فيها تحميل بنود المخزون المحددة بذاتها والمنتجات والخدمات التى يمكن فصلها ويتم ربطها بمشروعات معينة بعناصر التكاليف الخاصة بكل منها على حدة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651640" y="1052280"/>
            <a:ext cx="29620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صافى القيمة البيعية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قد لا يمكن استرداد تكلفة المخزون إذا ما تعرض للتلف أو التقادم الكلى أو الجزئى أو إذا انخفض سعر بيعه 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قد لا يمكن أيضاً استرداد تكلفة المخزون إذا زادت التكلفة التقديرية لإتمامه أو إذا زادت التكلفة التقديرية المتوقع تحملها لإتمام عملية البيع عن سعر بيعه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20:05:14Z</dcterms:created>
  <dc:creator>Eissa</dc:creator>
  <dc:description/>
  <dc:language>en-US</dc:language>
  <cp:lastModifiedBy>r.mansour</cp:lastModifiedBy>
  <dcterms:modified xsi:type="dcterms:W3CDTF">2006-12-11T13:26:42Z</dcterms:modified>
  <cp:revision>47</cp:revision>
  <dc:subject/>
  <dc:title>معيار المحاسبة المصرى رقم (14) تكلفة الاقتراض</dc:title>
</cp:coreProperties>
</file>